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5.wmf" ContentType="image/x-wmf"/>
  <Override PartName="/ppt/media/image10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4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EF7-0D97-4A3E-A45F-218A6AFA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F5D-21F3-4326-8DEE-AA81FC19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43D-FF9D-4F9E-A4D0-88176C55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A85-3674-4573-92CC-B3976DF9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602-4B27-4130-B0BB-EF7A7381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E0E-81B5-4EFF-9960-E46EA9E5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B1D-176A-4433-93F6-ADD7A6A0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1B3-149A-405F-A359-E67C51BA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64E-A5C9-4560-9D10-A8396654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BE4-08D4-4382-B249-1DF8F820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BFF-1EA1-4B60-AAF1-32CC62B6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675-94FD-47B2-AB3A-F3C65AAB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D35C-D0DE-4BDB-88A5-AE32C24FCA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0574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 of 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 Frequency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(part 1)</a:t>
            </a:r>
            <a:br>
              <a:rPr sz="6000"/>
            </a:b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55308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172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4648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use Gues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ypothetical data on the frequency of hepatitis in two citi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7010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nnual rate of occurrence of hepatit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A:  58 / 25,000 / 1 year =  232/10</a:t>
            </a:r>
            <a:r>
              <a:rPr b="1" lang="en-US" sz="2800" spc="-1" strike="noStrike" baseline="34000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/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B:  35 / 7000 / 2 years = 17.5 / 7000 / 1 ye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= 250/10</a:t>
            </a:r>
            <a:r>
              <a:rPr b="1" lang="en-US" sz="2800" spc="-1" strike="noStrike" baseline="34000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ypothetical data on the frequency of hepatitis in two citi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66680" y="5638680"/>
            <a:ext cx="472464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tios, Proportions, Ra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ree general classes of mathematical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•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ften used to relate the number of cases of a disease or health outcome to the size of the source population in which they occur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btained by dividing one quantity by another.  These quantities may be related or may be totally indepen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sually expressed 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umber of stillbirths per thousand live birth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eneral term that includes Rates and Propor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43200" y="4343400"/>
            <a:ext cx="25146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267080" y="2438280"/>
            <a:ext cx="114300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ratio in which the numerator is included in the denomin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ressed as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ere, 10</a:t>
            </a:r>
            <a:r>
              <a:rPr b="1" lang="en-US" sz="2400" spc="-1" strike="noStrike" baseline="30000">
                <a:solidFill>
                  <a:srgbClr val="000099"/>
                </a:solidFill>
                <a:latin typeface="Arial"/>
              </a:rPr>
              <a:t>n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s often 1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 The number of fetal deaths out of the total number of bir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 often read as a perc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4038480" cy="95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219320" cy="108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419112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R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measure of how quickly something of interest happe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ressed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 The number of new cases of Parkinson’s disease which develops per 1,000 person-years of follow-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ime, place and population must be specified for each type of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6248160" cy="87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352680" y="2286000"/>
            <a:ext cx="114300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es of Disease Frequenc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e701"/>
                </a:solidFill>
                <a:uFillTx/>
                <a:latin typeface="Arial"/>
              </a:rPr>
              <a:t>Incidence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 (I):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Measures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e701"/>
                </a:solidFill>
                <a:uFillTx/>
                <a:latin typeface="Arial"/>
              </a:rPr>
              <a:t>new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 cases of a disease that develop over a period of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38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38ca"/>
                </a:solidFill>
                <a:uFillTx/>
                <a:latin typeface="Arial"/>
              </a:rPr>
              <a:t>Prevalence</a:t>
            </a:r>
            <a:r>
              <a:rPr b="1" lang="en-US" sz="2800" spc="-1" strike="noStrike">
                <a:solidFill>
                  <a:srgbClr val="a538ca"/>
                </a:solidFill>
                <a:latin typeface="Arial"/>
              </a:rPr>
              <a:t> (P):  Measures </a:t>
            </a:r>
            <a:r>
              <a:rPr b="1" lang="en-US" sz="2800" spc="-1" strike="noStrike" u="sng">
                <a:solidFill>
                  <a:srgbClr val="a538ca"/>
                </a:solidFill>
                <a:uFillTx/>
                <a:latin typeface="Arial"/>
              </a:rPr>
              <a:t>existing</a:t>
            </a:r>
            <a:r>
              <a:rPr b="1" lang="en-US" sz="2800" spc="-1" strike="noStrike">
                <a:solidFill>
                  <a:srgbClr val="a538ca"/>
                </a:solidFill>
                <a:latin typeface="Arial"/>
              </a:rPr>
              <a:t> cases of a disease at a particular point in time or over a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evalence vs.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4111" t="15269" r="7598" b="31662"/>
          <a:stretch/>
        </p:blipFill>
        <p:spPr>
          <a:xfrm>
            <a:off x="2438280" y="1066680"/>
            <a:ext cx="4496040" cy="2362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•</a:t>
            </a:r>
            <a:r>
              <a:rPr b="1" lang="en-US" sz="2300" spc="-1" strike="noStrike">
                <a:solidFill>
                  <a:srgbClr val="00b000"/>
                </a:solidFill>
                <a:latin typeface="Arial"/>
              </a:rPr>
              <a:t> </a:t>
            </a:r>
            <a:r>
              <a:rPr b="1" lang="en-US" sz="2300" spc="-1" strike="noStrike" u="sng">
                <a:solidFill>
                  <a:srgbClr val="a538ca"/>
                </a:solidFill>
                <a:uFillTx/>
                <a:latin typeface="Arial"/>
              </a:rPr>
              <a:t>Prevalence</a:t>
            </a:r>
            <a:r>
              <a:rPr b="1" lang="en-US" sz="2300" spc="-1" strike="noStrike">
                <a:solidFill>
                  <a:srgbClr val="a538ca"/>
                </a:solidFill>
                <a:latin typeface="Arial"/>
              </a:rPr>
              <a:t> can be viewed as describing a pool of disease in a popul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701"/>
                </a:solidFill>
                <a:latin typeface="Arial"/>
              </a:rPr>
              <a:t>•  </a:t>
            </a:r>
            <a:r>
              <a:rPr b="1" lang="en-US" sz="2300" spc="-1" strike="noStrike" u="sng">
                <a:solidFill>
                  <a:srgbClr val="ffe701"/>
                </a:solidFill>
                <a:uFillTx/>
                <a:latin typeface="Arial"/>
              </a:rPr>
              <a:t>Incidence</a:t>
            </a:r>
            <a:r>
              <a:rPr b="1" lang="en-US" sz="2300" spc="-1" strike="noStrike">
                <a:solidFill>
                  <a:srgbClr val="ffe701"/>
                </a:solidFill>
                <a:latin typeface="Arial"/>
              </a:rPr>
              <a:t> describes the input flow of new cases into the pool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atality and recovery reflects the output flow from the pool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2T17:26:32Z</dcterms:modified>
  <cp:revision>168</cp:revision>
  <dc:subject/>
  <dc:title/>
</cp:coreProperties>
</file>